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592-0A96-48AE-A521-F05699F6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EC57-3678-4FEF-B1FD-E31031EB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089-9B21-4599-8253-9A74994D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79E-1FE9-47DE-83F4-BDDF732E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7253-6751-4E05-9AF4-B5BA24CD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A1D-A970-4FA5-A8BB-61DC1199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F83-59EB-4942-85EA-55BC88F7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70C6-61AC-4306-8600-BDD51E48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63C-0D04-448B-8150-DCDCD834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8EE-A40B-4919-8B07-1ED410CF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7936-83AB-419D-97A0-10EABF60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51A-779A-4DFE-9CC7-BA87A80C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5DC8-4A65-4F3B-B1B8-D93E29D3E811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38400" y="1946160"/>
            <a:ext cx="7572240" cy="906480"/>
          </a:xfrm>
          <a:prstGeom prst="rect">
            <a:avLst/>
          </a:prstGeom>
          <a:solidFill>
            <a:srgbClr val="cce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1" lang="en-US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2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제외 요청 검토 </a:t>
            </a:r>
            <a:endParaRPr b="1" lang="en-US" sz="26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3733920" y="5302080"/>
            <a:ext cx="2438280" cy="57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㈜</a:t>
            </a: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원정공</a:t>
            </a:r>
            <a:endParaRPr b="1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3733920" y="4437720"/>
            <a:ext cx="244476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.  6.  13.</a:t>
            </a:r>
            <a:endParaRPr b="1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685800"/>
            <a:ext cx="99522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45" name="Picture 181" descr="로고"/>
          <p:cNvPicPr/>
          <p:nvPr/>
        </p:nvPicPr>
        <p:blipFill>
          <a:blip r:embed="rId1"/>
          <a:stretch/>
        </p:blipFill>
        <p:spPr>
          <a:xfrm>
            <a:off x="8310600" y="304920"/>
            <a:ext cx="14414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0"/>
          <p:cNvSpPr/>
          <p:nvPr/>
        </p:nvSpPr>
        <p:spPr>
          <a:xfrm>
            <a:off x="344520" y="773280"/>
            <a:ext cx="9432720" cy="47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검토 목적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KMC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협력사 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사업과 관련하여 향후 추진 방향을 설정키 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검토 결과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부문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사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KMC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신규 차종개발 비대상 업체임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)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부문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 STAR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S1000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수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QS, VDS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대상 업체로 품질 정보전달체계 전산화를 구축하더라도 효과 미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형 기계식 연료분사장치가 적용되는 디젤엔진으로 배기 미규제 또는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URO1/2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용 지역인 동남아 및 아프리카 지역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출차종인 관계로 필드 불량 피드백이 완전치 않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료 및 고객 관리부실에 의한 불량이 많으므로 전산화 효과 미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▷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용 엔진공장의 엔진 조립 시 인젝션펌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/No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산화 미적용으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정보전달체계 전산화 효과 미비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원정공 인젝션 펌프는 당사 조립 투입 기준으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원 바코드 제품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/No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/No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레이져 마킹 실시 및 자체 관리 중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론 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endParaRPr b="1" lang="en-US" sz="14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투자 대비 효과가 미미할 것으로 판단되므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대상 제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”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요청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제외 불가 시 영업이익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억 적자 및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억 적자와 당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도에도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규모 영업적자가 예상되는 등 경영현황 악화에 의한 투자 여력 부족으로 한시적 적용 유예를 요청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7" name="Rectangle 41"/>
          <p:cNvSpPr/>
          <p:nvPr/>
        </p:nvSpPr>
        <p:spPr>
          <a:xfrm>
            <a:off x="123840" y="114480"/>
            <a:ext cx="6532560" cy="482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▣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KMC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품질 정보전달 체계 전산화 검토 </a:t>
            </a:r>
            <a:endParaRPr b="1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8" name="Line 44"/>
          <p:cNvSpPr/>
          <p:nvPr/>
        </p:nvSpPr>
        <p:spPr>
          <a:xfrm>
            <a:off x="0" y="685800"/>
            <a:ext cx="99522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49" name="Picture 181" descr="로고"/>
          <p:cNvPicPr/>
          <p:nvPr/>
        </p:nvPicPr>
        <p:blipFill>
          <a:blip r:embed="rId1"/>
          <a:stretch/>
        </p:blipFill>
        <p:spPr>
          <a:xfrm>
            <a:off x="8310600" y="304920"/>
            <a:ext cx="144144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07:50:38Z</dcterms:created>
  <dc:creator>HMC</dc:creator>
  <dc:description/>
  <dc:language>en-US</dc:language>
  <cp:lastModifiedBy>R Rhyu</cp:lastModifiedBy>
  <dcterms:modified xsi:type="dcterms:W3CDTF">2014-06-13T07:35:21Z</dcterms:modified>
  <cp:revision>354</cp:revision>
  <dc:subject/>
  <dc:title>슬라이드 1</dc:title>
</cp:coreProperties>
</file>